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D9C3-E09C-4F5C-84ED-D5AFF787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9CDF-1C27-4A84-A005-FB969463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C583-EC7B-42BF-8DFF-C58B514A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F8BA-42D4-4E13-A838-548F18CB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7770-F29D-4D55-96FE-983EFE19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17CC-E00F-4EB8-AD55-C6D22243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7118-00BE-47EA-B921-817FD177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832A-82DE-4A03-B6C0-E45A2ECC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9FC3-81FB-41A3-A012-AFD25972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5FA9-AFC0-45A9-B484-D1DC5667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B2E6-3DA8-4374-A042-880AAAE8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2E3E-0074-458C-8535-8C91CFD6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1BF6-F9BE-4355-B5FB-03108929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48C5-9BB5-4D25-A323-5A8047FD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0A96-D66A-40C4-95BE-A45B59A8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B212-DD04-44EF-BA14-D08B7EDD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19C2-014B-49EE-9EB5-1727AB4A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BBE7-6057-489F-A92F-9175805D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0B1A-C5D3-41C7-8D11-60A9E44F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C03D-9D57-48FF-861F-18406541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B43-A2B8-43B5-9964-C87F3BBC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5F45-8A3D-4D4A-A2E5-A95F4E44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B3F-7C44-462D-A096-AC06DEA5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5A84-9B5B-4AE4-892E-D46F2E04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230D-019A-4E7F-9A51-AD5B5B6E2B6E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EC17-D8BD-49CD-A9D9-53B2560710D6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772400" cy="27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Sistema Nacional de</a:t>
            </a:r>
            <a:br>
              <a:rPr sz="4000"/>
            </a:b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Prevenção, Preparação e </a:t>
            </a:r>
            <a:br>
              <a:rPr sz="4000"/>
            </a:b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Resposta Rápida a </a:t>
            </a:r>
            <a:br>
              <a:rPr sz="4000"/>
            </a:b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Emergências Ambientais (P</a:t>
            </a:r>
            <a:r>
              <a:rPr b="0" lang="pt-BR" sz="40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R</a:t>
            </a:r>
            <a:r>
              <a:rPr b="0" lang="pt-BR" sz="4000" spc="-1" strike="noStrike" baseline="30000">
                <a:solidFill>
                  <a:srgbClr val="006666"/>
                </a:solidFill>
                <a:latin typeface="Arial"/>
              </a:rPr>
              <a:t>2)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4338360"/>
            <a:ext cx="72392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Julho 2003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Preparação é a Cha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É preciso estar preparado par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evenir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Responder rapidament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Identificar as situações de emergência antes que transformem-se em desastr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A preparação é a única ação que não depende de fatos extern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Preparação = treinamento, simulação, compartilhar informaçõ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097600" y="5738760"/>
          <a:ext cx="3578040" cy="2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0" y="5738760"/>
                    <a:ext cx="357804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Cataguazes de Papel / 200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Isso não teria acontecido se aqueles pescadores tivessem sido ouvidos e levados em consideração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Marina Silva, Ministra do Meio Amb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Vamos sair daqui porque essa sujeira toda vai é descer rio abaixo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Morador a jusante da lagoa de armazenamento de residuos da Cataguazes de Pap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6666"/>
                </a:solidFill>
                <a:latin typeface="Arial"/>
              </a:rPr>
              <a:t>Um Futuro Possível a Curto Praz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500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Populações em áreas de risco: informados, preparados, cobrando e colaborando com o poder público, participando das ações locais de prevenção e resposta rápid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"/>
              </a:rPr>
              <a:t>Competências e Competições a Resolv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SISNAMA: referência desde 1981, sem instrumentos práticos. Iniciativas dispersas no IBAMA e no MM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Órgãos estaduais de meio ambiente: preparo empírico mas dispers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Municípios: defesa civil, empresas e suas instalaçõ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Atores recentes: ANA, SRH, CNRH, CERHs, Condemas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Um Caminho: enfoques orientados para soluçõ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Principais tipos de emergênci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Transporte e Transbordo: probabilidade alta, dano loc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Depósito in situ: probabilidade baixa, dano loc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Depósito ex situ: probabilidade alta, dano local ou region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Depósitos órfãos: probabilidade alta (crescente), dano region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"/>
              </a:rPr>
              <a:t>Algumas Características do Sistema Desejad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cursos Financeiros: do setor privado (transporte e transbordo, depósitos in situ e ex situ) e do setor público (depósitos órfãos). Financiamento Externo em complemento a recursos próprios e de terceir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eparação contínua a partir de um centro de referência nacio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onitoramento (geomático) centralizado e aberto a todos os níve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dentificação das instalações e das populações sob risco, simultaneam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rticulação de alto nível e operacional entre IBAMA e A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Alguns Componentes do Sistem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Sala de Situação no IBAMA, que “enfeixe” ANA, Petrobrás e outr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Telefone Nacional para Emergências Ambientais por Produtos Químicos Perigos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Programa Nacional de Identificação e Atualização de Instalações e Populações sob risco de Emergências com Produtos Químicos Perigos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Programa de Treinamento e Aperfeiçoamento de Agentes e Populações para a P2R2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Acordos Operacionais entre Agentes do SISNAMA e ANA e outros para P2R2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entro de Referência para diagnóstico/tratamento de sítios e populações contaminadas, Fundo de Remediação de Áreas Contaminadas (Superfund/USA), Linha de Financiamento BNDES para passivos ambientai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Próximos Pass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MMA define prazos e momentos – cha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MMA organiza seminário com Secretários Estaduais e dirigentes de OEMAs sobre P2R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Seminário permite identificar Grupos de Trabalho para implantação do Sistema Nacional de P2R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berto Isao Kishinami</cp:lastModifiedBy>
  <dcterms:modified xsi:type="dcterms:W3CDTF">2003-07-10T12:32:41Z</dcterms:modified>
  <cp:revision>14</cp:revision>
  <dc:subject/>
  <dc:title>PowerPoint Presentation</dc:title>
</cp:coreProperties>
</file>